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13A7-78A8-471E-86DF-9114F9D3E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B96D-0117-47E0-8000-C4868A016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20880" y="746280"/>
            <a:ext cx="4965480" cy="3725640"/>
          </a:xfrm>
          <a:prstGeom prst="rect">
            <a:avLst/>
          </a:prstGeom>
          <a:ln w="0">
            <a:noFill/>
          </a:ln>
        </p:spPr>
      </p:sp>
      <p:sp>
        <p:nvSpPr>
          <p:cNvPr id="14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9D21-961D-4664-97D4-5F80DD574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20880" y="746280"/>
            <a:ext cx="4965480" cy="3725640"/>
          </a:xfrm>
          <a:prstGeom prst="rect">
            <a:avLst/>
          </a:prstGeom>
          <a:ln w="0">
            <a:noFill/>
          </a:ln>
        </p:spPr>
      </p:sp>
      <p:sp>
        <p:nvSpPr>
          <p:cNvPr id="14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D7A1-47FE-4CDC-B3BF-C35AA5800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20880" y="746280"/>
            <a:ext cx="4965480" cy="3725640"/>
          </a:xfrm>
          <a:prstGeom prst="rect">
            <a:avLst/>
          </a:prstGeom>
          <a:ln w="0">
            <a:noFill/>
          </a:ln>
        </p:spPr>
      </p:sp>
      <p:sp>
        <p:nvSpPr>
          <p:cNvPr id="14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24AE-11B2-4D52-A7DF-DDDFEC3D9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85EE-69B5-4CF4-B1E5-57274F1CD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49C3B-CD43-4F28-9C99-9B006D6CA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94512-BF43-4112-8F5A-843B6C357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F8863-8C63-467F-B8A1-7951E1EB8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0B111-22C7-4FCC-9620-A0EC2D905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7DD8E-6875-4ECF-A7DC-29BCF39CC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14337-7F4B-419C-BF20-761EEBD5D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628E7-070C-450D-8EE3-A07048417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A3F80-0EFB-4141-8DED-B78319DA9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754A3-032E-46A2-BC39-46F1D73D8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6B2A8-77FB-4D37-B81E-D0D76378A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21E9D-F252-4C4D-8BC7-0B2D85CA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5E9E6-7748-4822-ACBF-F529C66CE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9954E-6B89-46AD-93C3-397141B76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7F503-4B3C-407B-A609-0C00D81E6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FBB61-24E1-4CFE-BE80-18DB2168E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CD401-B927-4D9D-BAA2-E5E979F8A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D47CB-B94F-48F1-894C-2333F3B4F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B5DFB-8096-429C-885C-3B50E38CD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ED407-4B9E-417B-9A51-DC13A2BE2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EA514-8EB6-4BEF-A302-AEDE6AF32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DF80-E710-4F78-886F-2BB1F3AF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C30F-C4EE-4C9F-A3F2-AEC637C27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FE76-C8DE-4D8F-9DBC-E8E7AAB95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A594F-B213-4790-8920-6083B1635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E780-EFAE-48EE-AEA5-81365495C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03E06A6-1DC5-4DB0-8842-8E65B4744ED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C97AC54-8857-48E2-84D7-77BB3E5AD86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FD88-DC23-4C16-B3EB-22262E0C6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Coordination </a:t>
            </a:r>
            <a:r>
              <a:rPr b="1" lang="fr-FR" sz="4800" spc="-1" strike="noStrike">
                <a:solidFill>
                  <a:srgbClr val="ffffff"/>
                </a:solidFill>
                <a:latin typeface="Arial"/>
                <a:ea typeface="Verdana"/>
              </a:rPr>
              <a:t>généra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8589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ôle du comité national de coordination (3)</a:t>
            </a:r>
            <a:endParaRPr b="0" lang="en-US" sz="40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éterminer les canaux d’information au cours des opérations de riposte à l’épidémie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quer régulièrement avec la presse nationale et internationale</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tre en place au niveau local, avec l’assistance des spartenaires internationaux, un comité de coordination technique et scientifique international chargé de coordonner les mesures de lutte et d’organiser les activités quotidiennes des équipes de terrai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réunion de coordination et le suivi des opé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coordination avec les services responsables de la santé des animaux sauvag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cs nationau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vétérinair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iller au roulement régulier des effectif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44920" y="2073240"/>
            <a:ext cx="4407120" cy="2940120"/>
          </a:xfrm>
          <a:prstGeom prst="rect">
            <a:avLst/>
          </a:prstGeom>
          <a:ln w="0">
            <a:noFill/>
          </a:ln>
        </p:spPr>
      </p:pic>
      <p:sp>
        <p:nvSpPr>
          <p:cNvPr id="120"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iter d’appliquer des mesures restrictives, conformément au RSI (2005)</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Préparer le rapport de fin de l’épidémi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spects technique,administratif, financier et logistiqu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impact économique et social de l’épidémi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a gestion de l’épidémi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 </a:t>
            </a:r>
            <a:r>
              <a:rPr b="0" lang="en-US" sz="2500" spc="-1" strike="noStrike">
                <a:solidFill>
                  <a:srgbClr val="000000"/>
                </a:solidFill>
                <a:latin typeface="Arial"/>
                <a:ea typeface="Times New Roman"/>
              </a:rPr>
              <a:t>Sur la base de l’expérience acquise, faire des  recommandations pour la prévention et la gestion des épidémies à venir</a:t>
            </a:r>
            <a:endParaRPr b="0" lang="en-US" sz="2500" spc="-1" strike="noStrike">
              <a:solidFill>
                <a:srgbClr val="000000"/>
              </a:solidFill>
              <a:latin typeface="Arial"/>
            </a:endParaRPr>
          </a:p>
        </p:txBody>
      </p:sp>
      <p:sp>
        <p:nvSpPr>
          <p:cNvPr id="12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COU/IMC pour l’EVD</a:t>
            </a:r>
            <a:endParaRPr b="0" lang="en-US" sz="4000" spc="-1" strike="noStrike">
              <a:solidFill>
                <a:srgbClr val="000000"/>
              </a:solidFill>
              <a:latin typeface="Arial"/>
            </a:endParaRPr>
          </a:p>
        </p:txBody>
      </p:sp>
      <p:pic>
        <p:nvPicPr>
          <p:cNvPr id="124" name="" descr=""/>
          <p:cNvPicPr/>
          <p:nvPr/>
        </p:nvPicPr>
        <p:blipFill>
          <a:blip r:embed="rId1"/>
          <a:stretch/>
        </p:blipFill>
        <p:spPr>
          <a:xfrm>
            <a:off x="457200" y="1197000"/>
            <a:ext cx="8229600" cy="4929120"/>
          </a:xfrm>
          <a:prstGeom prst="rect">
            <a:avLst/>
          </a:prstGeom>
          <a:ln w="0">
            <a:noFill/>
          </a:ln>
        </p:spPr>
      </p:pic>
      <p:pic>
        <p:nvPicPr>
          <p:cNvPr id="125" name="Picture 2" descr=""/>
          <p:cNvPicPr/>
          <p:nvPr/>
        </p:nvPicPr>
        <p:blipFill>
          <a:blip r:embed="rId2"/>
          <a:stretch/>
        </p:blipFill>
        <p:spPr>
          <a:xfrm>
            <a:off x="365040" y="981000"/>
            <a:ext cx="7907400" cy="518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e en place du COU/IMC</a:t>
            </a:r>
            <a:endParaRPr b="0" lang="en-US" sz="4000" spc="-1" strike="noStrike">
              <a:solidFill>
                <a:srgbClr val="000000"/>
              </a:solidFill>
              <a:latin typeface="Arial"/>
            </a:endParaRPr>
          </a:p>
        </p:txBody>
      </p:sp>
      <p:sp>
        <p:nvSpPr>
          <p:cNvPr id="127" name=""/>
          <p:cNvSpPr txBox="1"/>
          <p:nvPr/>
        </p:nvSpPr>
        <p:spPr>
          <a:xfrm>
            <a:off x="250920" y="1773000"/>
            <a:ext cx="8229600" cy="388764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et nommer le personnel pour les différents domaines thématique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sir un espace pour le COU</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parer des termes de référence et des activités prioritaires préparer pour orienter le travail de chaque domaine thématique (Groupe de travail contre Ebola: ETF) ;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le personnel, dresser la liste des besoins en matériel et financements, élaborer un plan d’opérations axé sur les résultats (groupes thématiqu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r et approuver les plans opérationnels (ETF) et les ressources nécessa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er les différents domaines thématiques aux partenaires techniques sur la base de leu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2708280"/>
            <a:ext cx="7772400" cy="1362240"/>
          </a:xfrm>
          <a:prstGeom prst="rect">
            <a:avLst/>
          </a:prstGeom>
          <a:solidFill>
            <a:srgbClr val="7575d1"/>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COMITÉ DE COORDINATION LOCAL (DISTRI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01600"/>
            <a:ext cx="8856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Structure du comité de coordination local (CCL)</a:t>
            </a:r>
            <a:endParaRPr b="0" lang="en-US" sz="4000" spc="-1" strike="noStrike">
              <a:solidFill>
                <a:srgbClr val="000000"/>
              </a:solidFill>
              <a:latin typeface="Arial"/>
            </a:endParaRPr>
          </a:p>
        </p:txBody>
      </p:sp>
      <p:sp>
        <p:nvSpPr>
          <p:cNvPr id="130" name=""/>
          <p:cNvSpPr txBox="1"/>
          <p:nvPr/>
        </p:nvSpPr>
        <p:spPr>
          <a:xfrm>
            <a:off x="457200" y="1600200"/>
            <a:ext cx="4038480" cy="45259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CL est divisé en sous-comités reflétant les principes de base de la lutte contre l’EVD:</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coordin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surveillance et le laboratoire</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ise en charge des cas et la lutte contre l’infec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mobilisation sociale et la communic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soutien psychosocial;</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logistique et la sécurité</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1" name="Picture 2" descr="F:\Ebola July 2014 documents_YZ\SLE EBOLA RESPONSE PHOTO LIBRARY\12 WHO Mobile lab equipment for Kailahun ebola outbreak_WHO Saffea Gborie.jpg"/>
          <p:cNvPicPr/>
          <p:nvPr/>
        </p:nvPicPr>
        <p:blipFill>
          <a:blip r:embed="rId1"/>
          <a:stretch/>
        </p:blipFill>
        <p:spPr>
          <a:xfrm>
            <a:off x="4648320" y="227664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15920"/>
            <a:ext cx="8820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tion du comité de coordination local:</a:t>
            </a:r>
            <a:endParaRPr b="0" lang="en-US" sz="40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résident du conseil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édecin local / Équipe de gestion de la san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seillers, les chefs de distri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suprê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de départ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directeurs des organismes de sécuri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représentants des organissations de la société civ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utorités religieu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rganisations partenaires internationales, nationales et locales (OMS, CDC, MSF, ONG, OBC, et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de coordination local</a:t>
            </a:r>
            <a:endParaRPr b="0" lang="en-US" sz="40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oner tous les aspects opérational de la riposte sur le terrain, conformément aux directives d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quer des réunions quotidiennes pour coordonner la riposte sur terrai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er et allouer des ressources pour la riposte à l’épidé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ire des rapports de situation quotidiens et les communiquer a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plir toute autre tâche à lui confiée par le comité de coordination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erci</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s ministres de la santé et autres responsables des questions de santé doivent jouer un rôle primordial en termes de leadership dans la coordination et la mise en oeuvre des mesures urgentes de riposte à la maladie à virus E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claration du Directeur génaral de l’OMS, le 8 août 2014, lors de la réunion du Comité d’urgence du RSI relative à l’épidémie de maladie à virus Ebola de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844640"/>
            <a:ext cx="8686800" cy="266400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terme de la séance, les participants devraient maîtriser la coordination de la préparation et de la riposte à l’EV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 (2)</a:t>
            </a:r>
            <a:endParaRPr b="0" lang="en-US" sz="4200" spc="-1" strike="noStrike">
              <a:solidFill>
                <a:srgbClr val="000000"/>
              </a:solidFill>
              <a:latin typeface="Arial"/>
            </a:endParaRPr>
          </a:p>
        </p:txBody>
      </p:sp>
      <p:sp>
        <p:nvSpPr>
          <p:cNvPr id="103" name=""/>
          <p:cNvSpPr txBox="1"/>
          <p:nvPr/>
        </p:nvSpPr>
        <p:spPr>
          <a:xfrm>
            <a:off x="250560" y="1268280"/>
            <a:ext cx="8893080" cy="4392720"/>
          </a:xfrm>
          <a:prstGeom prst="rect">
            <a:avLst/>
          </a:prstGeom>
          <a:noFill/>
          <a:ln w="0">
            <a:noFill/>
          </a:ln>
        </p:spPr>
        <p:txBody>
          <a:bodyPr anchor="t">
            <a:norm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uligner le rôle du comité de coordination sur la préparation et la riposte à l’EVD</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s termes de référence du comité de coordination</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poser les grandes lignes des activités du comité de coordination au niveau du district (local)</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un exemple de COU/IMC</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Coordination multisectorielle</a:t>
            </a: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national local</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le of de COU/IMC</a:t>
            </a:r>
            <a:endParaRPr b="0" lang="en-US" sz="26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local (distri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et tâches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3200" spc="-1" strike="noStrike">
                <a:solidFill>
                  <a:srgbClr val="000000"/>
                </a:solidFill>
                <a:latin typeface="Arial"/>
                <a:ea typeface="Times New Roman"/>
              </a:rPr>
              <a:t>Coordination: stratégie multi-disciplinaire</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du comité national de coordination (ETF)</a:t>
            </a:r>
            <a:endParaRPr b="0" lang="en-US" sz="4000" spc="-1" strike="noStrike">
              <a:solidFill>
                <a:srgbClr val="000000"/>
              </a:solidFill>
              <a:latin typeface="Arial"/>
            </a:endParaRPr>
          </a:p>
        </p:txBody>
      </p:sp>
      <p:pic>
        <p:nvPicPr>
          <p:cNvPr id="109" name="Content Placeholder 4" descr=""/>
          <p:cNvPicPr/>
          <p:nvPr/>
        </p:nvPicPr>
        <p:blipFill>
          <a:blip r:embed="rId1"/>
          <a:stretch/>
        </p:blipFill>
        <p:spPr>
          <a:xfrm>
            <a:off x="347760" y="1596960"/>
            <a:ext cx="835164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1960"/>
            <a:ext cx="8697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Composition du comité national de coordination:</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lvl="1" marL="45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e leadership national est primordial et la composition peut varier selon les pays, mais elle se présente essentiellement ainsi qu’il suit: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abinet du Président de la République,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Ministères de la Santé, des finances, de l’agriculture, de l’éducation, des affaires sociales, de la défense, chargé des services vétérinaires,  etc.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rtenaires internationaux et locaux (OMS, MSF, CDC, UNICEF, USAID, FAO, BIE, Croix rouge/Croissant rouge, FICR,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Groupes d’intérêts: industries extractives (mines, pétrole, bois) tourisme, compagnies aériennes,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ôle du comité de coordination </a:t>
            </a:r>
            <a:endParaRPr b="0" lang="en-US" sz="40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 rôle du comité de coordination est d’assurer la coordination générale des opérations, des activités de prévention et de lutte contre l’épidémie et de la mobilisation des res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opter les stratégies de lutte contre l’EVD  recommandées par l’OMS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Élaborer un plan d’action détaillé pour la riposte à l’EV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éfinir les responsabilités des différentes équipes sur le terr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ser la mobilisation des ressources en collaboration avec les partenai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2-01T16:04:34Z</dcterms:modified>
  <cp:revision>254</cp:revision>
  <dc:subject/>
  <dc:title>DPC Training and Technical Update</dc:title>
</cp:coreProperties>
</file>